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566-117F-4685-9EB3-4E2D89A6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1466-B25F-4996-9BC3-3D0F542AA8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F80B-DA09-4768-99D4-DD2D93BE66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893-498B-4F80-9570-2ED00D759E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1EFD-2A48-4C9C-A9FC-2E159742FB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AA31-90ED-47CB-A9C0-AEE2B269C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FB9-2BF7-4F1B-B88B-25A343940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6643-2AB0-4F5D-B6A5-C446FACF2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A805-4C41-48EB-8CE2-B5743A64C0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2514-E1B4-4B76-9515-5EF848032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2E71-2181-46F1-9850-65773AD246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34C-61AF-41E1-83EF-5FB280F6F9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97D5-4CA4-4BE5-843E-0B069310D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A550-6F5E-42D0-989F-BF3DC96B2F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80BD-A463-45EE-9775-2F81D7A3A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E092-FB50-4D5D-AB57-5AE2EF1602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1FF-7056-41BC-8097-62059A59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432-B5DB-4406-96F3-1B0674C0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7E1-7673-4FC3-BC6F-9660F5D2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678-07AA-463E-B0E3-CEFE9AC7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9393-7D13-41CF-B2FB-D52BDC2B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8327-0396-4CF0-B8D4-59350AC0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6361-B6A5-4148-BA72-CC2DDBE5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1AA0-823E-4A46-9681-FB27ABAD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C8E8-775F-4AC2-A452-2112C899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A4CF-0EFE-4B53-AD26-EF4BC9B4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93FA-6EF4-4D84-94D1-6E0FC33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E29-C210-42C4-891B-275CC9C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578-8AB5-47A7-8338-97D97036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3F5-7166-44F9-A5C3-851267F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344F-AB58-4BA8-A8C5-B1BA57CA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08E8-ECFC-4899-A437-DE96D608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7178-4B26-4D26-96E3-A210AFDA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5AD-AC5F-44DF-AFEF-224C9E9F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032-9A45-43B7-A911-A71CC112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9CD-E9B6-4B0C-B95D-C7E78260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84A-79C6-4728-AC52-71E2D08E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468-84A0-40FC-BD72-E0AF1C2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D7B-EE12-4389-94A7-B2FC53A7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B7D-9013-4CE3-954A-6C3490C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594360" indent="-2286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880">
              <a:spcBef>
                <a:spcPts val="10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3" marL="1280160" indent="-182880">
              <a:spcBef>
                <a:spcPts val="10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4" marL="1645920" indent="-182880">
              <a:spcBef>
                <a:spcPts val="10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32FB-59FD-4B73-977B-8C14C90EF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594360" indent="-2286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880">
              <a:spcBef>
                <a:spcPts val="10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3" marL="1280160" indent="-182880">
              <a:spcBef>
                <a:spcPts val="10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4" marL="1645920" indent="-182880">
              <a:spcBef>
                <a:spcPts val="10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8F7D-B123-479F-9E61-234B00D3D2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Static Electricity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arging by conduction and induction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lectric force, Coulomb’s Law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Practice Problem #1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A new force…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lectric forc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etween 2 charged objects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Depends on distance, amt. of charg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oulomb’s Law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981080" y="33526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114800" y="2743200"/>
            <a:ext cx="5410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4267080" y="388620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352680" y="32767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5720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905120" y="55627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K = 9 x 10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C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oulomb’s Law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Units  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arge - coulomb (C)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rce – Newtons (N)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lectric force is a vector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lass Practice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ulomb’s Law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lectric field, version 2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Day 2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Electrical PE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ompare to GP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Depends on relative position in field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ork done to increase P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High or Low?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Electric Potential Difference (voltage)</a:t>
            </a: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lectrical PE per charg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nits – volts (1 J/C)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Device - voltmete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Assignment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harging by Conduction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52" name="Picture 7" descr="u8l2c1"/>
          <p:cNvPicPr/>
          <p:nvPr/>
        </p:nvPicPr>
        <p:blipFill>
          <a:blip r:embed="rId1"/>
          <a:stretch/>
        </p:blipFill>
        <p:spPr>
          <a:xfrm>
            <a:off x="1295280" y="2666880"/>
            <a:ext cx="64771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harging by Induction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55" name="Picture 7" descr="22_04_Charging_by_induction"/>
          <p:cNvPicPr/>
          <p:nvPr/>
        </p:nvPicPr>
        <p:blipFill>
          <a:blip r:embed="rId1"/>
          <a:srcRect l="0" t="0" r="0" b="6857"/>
          <a:stretch/>
        </p:blipFill>
        <p:spPr>
          <a:xfrm>
            <a:off x="533520" y="2743200"/>
            <a:ext cx="8381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harging by Induction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58" name="Picture 5" descr="balloon_mov"/>
          <p:cNvPicPr/>
          <p:nvPr/>
        </p:nvPicPr>
        <p:blipFill>
          <a:blip r:embed="rId1"/>
          <a:stretch/>
        </p:blipFill>
        <p:spPr>
          <a:xfrm>
            <a:off x="2362320" y="3048120"/>
            <a:ext cx="41907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Electric Fields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ged particles produc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ther charged particles experience forc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Field Lines</a:t>
            </a:r>
            <a:endParaRPr b="1" lang="en-US" sz="5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oint direction a + charge would mov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ore lines = stronger fiel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Draw the fields…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1 positive charg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1 negative charg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 positiv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 negativ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1 positive/1 negativ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66" name="Picture 2" descr="http://www.splung.com/fields/images/efield/dipole2.png"/>
          <p:cNvPicPr/>
          <p:nvPr/>
        </p:nvPicPr>
        <p:blipFill>
          <a:blip r:embed="rId1"/>
          <a:stretch/>
        </p:blipFill>
        <p:spPr>
          <a:xfrm>
            <a:off x="550800" y="2971800"/>
            <a:ext cx="3503520" cy="2139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www.splung.com/fields/images/efield/dipole.png"/>
          <p:cNvPicPr/>
          <p:nvPr/>
        </p:nvPicPr>
        <p:blipFill>
          <a:blip r:embed="rId2"/>
          <a:stretch/>
        </p:blipFill>
        <p:spPr>
          <a:xfrm>
            <a:off x="4800600" y="2971800"/>
            <a:ext cx="36352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To calculate field strength:</a:t>
            </a:r>
            <a:br>
              <a:rPr sz="4800"/>
            </a:br>
            <a:endParaRPr b="1" lang="en-US" sz="4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 = F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omic Sans MS"/>
              </a:rPr>
              <a:t>on q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/q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4:51:44Z</dcterms:created>
  <dc:creator>bisd</dc:creator>
  <dc:description/>
  <dc:language>en-US</dc:language>
  <cp:lastModifiedBy>jluckey</cp:lastModifiedBy>
  <dcterms:modified xsi:type="dcterms:W3CDTF">2011-04-24T21:13:21Z</dcterms:modified>
  <cp:revision>99</cp:revision>
  <dc:subject/>
  <dc:title>IPC Bell-Ringer</dc:title>
</cp:coreProperties>
</file>